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53373-E372-4CDF-B4FF-F006BB774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44851-C2FF-4820-8824-3C31DEB75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7AFBC-98A0-49B2-BEE3-CCFC65716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398FC-20F7-4A72-AF50-292269A9C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BA8FD-900E-4147-9BFB-6C8610B35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DF8DA-2273-49B7-BB2A-7C32CE696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5B077-DB92-4610-85A4-74F7EB051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8F8D7-EB25-48E3-8330-EA0FAC54B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FC834-EACD-4599-8A66-A57BF9171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36536-E129-4552-A5B8-B08394670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54F72-AB9A-41C8-BF33-780B2A2C6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798C9-BF48-4F3D-8CCF-A2C8BAD60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165DC-8DB3-4F55-A5C6-F320A9024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6B2CB-1314-4989-974B-A70B1F31C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E07BF-E599-4088-A70A-71EC2F6B0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D0760-F1EB-420A-A744-6698421C7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CA93C-B827-4ED0-B5CA-A623924A2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89AC1-2674-4797-ADD9-BEF975787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5ADBD-734E-4FA6-8435-C4A4CD2D0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D02F7-FE9E-4FB4-9BAE-7524B0BBD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D86F4-986B-4AE5-ADDB-42F93780B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2A56B-1B1B-4349-8964-A80F7243E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8DEB4-5CB2-4638-9468-02209EC84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3A3F6-83C2-4166-BDFA-89F0CC423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20914-F577-489C-B862-BF6C23E8C645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895480"/>
            <a:ext cx="85928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4124160"/>
            <a:ext cx="767700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16E0B-9D4F-4360-AE47-776D385B169F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9120" y="2418840"/>
            <a:ext cx="85932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제 </a:t>
            </a:r>
            <a:r>
              <a:rPr b="0" lang="en-US" sz="4400" spc="-1" strike="noStrike">
                <a:solidFill>
                  <a:srgbClr val="a3007c"/>
                </a:solidFill>
                <a:latin typeface="굴림"/>
                <a:ea typeface="굴림"/>
              </a:rPr>
              <a:t>1</a:t>
            </a: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장 특수교육학의 </a:t>
            </a:r>
            <a:br>
              <a:rPr sz="4400"/>
            </a:b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개요와 발전과제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11000" y="4362480"/>
            <a:ext cx="7677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66560" y="1339920"/>
            <a:ext cx="8226720" cy="517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이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의 목표와 목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의 대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시각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청각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신지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지체부자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서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언어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학습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 대상자 출현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특수교육의 개념과 과정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특수교육 기관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조기 특수교육 기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학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학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학습 도움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기숙제 학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병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가정 및 복지시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특수교육 과정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아동 찾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선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사정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(assess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개별화 교육계획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(Individualized Education Plan: IE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배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교수 학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수행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형성 및 총괄 평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서양의 특수교육 역사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고대와 중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장애인에 대한 편견의 시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근세 초기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장애인의 보호와 교육의 시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말 –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특수아를 위한 학교 교육의 성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청각장애교육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계 최초의 농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프랑스 파리 농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176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독일의 세계 최초의 공립 농학교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77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영국의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Braidwood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가 농교육에 기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미국의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Gallaudet: 181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에 미국에 최초의 농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시각장애교육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계 최초의 시각장애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1784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파리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영국에는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79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독일에는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0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정신지체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Itard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Seguin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의 공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 Seguin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이 미국에서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Howe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협력하여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4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에 정신지체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체부자유 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1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후반 정형외과학의 발달과 관련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; 1832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독일에서 지체부자유 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특수교육의 질적 변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한국의  특수교육 역사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삼국시대에서 조선시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빈민규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고려 숙종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복업과 궁중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조선시대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명통사에서 경문 집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개화기 및 일제시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유길준의 서유견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서양식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근대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특수교육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R. S. Hall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여사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894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제생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912)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교육과 수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박두성의 훈맹정음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929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35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이창호 목사에 의한 평양 광명 맹아학교 설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맹인 손용수는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38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에 원산 맹학교 설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해방이후부터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7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대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47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서울맹아학교 교장 윤백원에 의해 한글 지문자 제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49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특수학교 설립과 특수학급 설치에 관한 규정 공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77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특수교육진흥법 제정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1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회 개정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8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대 이후의 특수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특수교육의 최근 동향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정상화 원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교수의 개별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조기교육과 전환교육의 강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부모의 권익 강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중도 중복장애 교육의 강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a3007c"/>
                </a:solidFill>
                <a:latin typeface="Arial"/>
                <a:ea typeface="굴림"/>
              </a:rPr>
              <a:t>질문할 시간입니다</a:t>
            </a:r>
            <a:r>
              <a:rPr b="0" lang="en-US" sz="4000" spc="-1" strike="noStrike">
                <a:solidFill>
                  <a:srgbClr val="a3007c"/>
                </a:solidFill>
                <a:latin typeface="Arial"/>
                <a:ea typeface="굴림"/>
              </a:rPr>
              <a:t>.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2049480" y="1195560"/>
            <a:ext cx="561672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8T03:17:31Z</dcterms:created>
  <dc:creator/>
  <dc:description/>
  <dc:language>en-US</dc:language>
  <cp:lastModifiedBy>f</cp:lastModifiedBy>
  <dcterms:modified xsi:type="dcterms:W3CDTF">2007-04-05T02:32:51Z</dcterms:modified>
  <cp:revision>10</cp:revision>
  <dc:subject/>
  <dc:title>제 1장 교육과정과 교수학습</dc:title>
</cp:coreProperties>
</file>